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72E6-7795-42FE-B877-8A1AB79C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A6D-A227-478F-AABD-68CB8FDB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A0F-D028-4429-A22D-0B642430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C02-36E1-401A-98A1-B06F634F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A3D-093A-4CF4-9625-269558C6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8F63-C692-46AA-87D4-712D1D82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E02-68D1-4C0C-83FB-DDDD3BFB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420-4F8C-4A53-A871-1863E892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87A-5ACA-4575-83E6-2AB02C06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057-C87B-4D69-B33A-DF907B95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17E-8A7D-4F58-A7B6-EB75EC0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A26-3B76-4FB2-B66F-DD42978F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471C-5B38-419D-B9EE-B21D0FF67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ttle of Gettysbu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fterm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battle, Gettysburg was in sham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51,000 killed, wounded, and missing soldiers left 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nded and dying crowded into every building in the 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f the dead were hastily buried or not buried 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ttle of Gettysburg begins about 8 a.m. on McPherson 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3:30 p.m., the Union line breaks and troops fall back through the town to Cemetery H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,000 Confederates vs. 20,000 Federals eng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e army takes high ground on Seminary 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e troops attack both the right and left flanks of the Union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ults on both Union flanks turned back, with some loss of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 in the afternoon, Union center repulses “Pickett’s Charg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reached by Confederate troops on Cemetery Ridge called “the High Water Mark of the Confederac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,000 Confederates vs. 20,000 Federals eng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3T19:52:36Z</dcterms:created>
  <dc:creator>Cat Skintik</dc:creator>
  <dc:description/>
  <dc:language>en-US</dc:language>
  <cp:lastModifiedBy>Julie Hotchkiss</cp:lastModifiedBy>
  <dcterms:modified xsi:type="dcterms:W3CDTF">2004-09-23T11:47:35Z</dcterms:modified>
  <cp:revision>7</cp:revision>
  <dc:subject/>
  <dc:title>Gettysburg</dc:title>
</cp:coreProperties>
</file>